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DB6-1A5F-4ABA-98C2-5F9F9770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EE3-05B3-489E-8B22-38FFF6CA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9C7-616B-4FE4-BFD4-43CB76BA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2BF-B2BE-47C6-8D5F-BAA497BB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EB7-C509-4796-84EB-261E9D80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E7E-5D2A-4033-9A98-74B81DE8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C7F-4AE3-44D8-BF12-AA5FB45C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C8A-A456-4F60-9009-B47722E0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80A-3A1B-41ED-A068-6C4FE251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698-34E1-445B-B81A-E64FD9FB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C3A-2FE9-40F7-92B0-22E381D4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6B6B-7272-4C33-9C65-C7A73540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89D1-7290-4795-9F51-10A279BBCB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ltural dimension of biomedicine and pharmaceutic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Mothers giving medicines to their sick child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Have therapeutic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Confirm that mother c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Send that message to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husband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ch reinforces therapeutic eff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Women in distress relying on benzodiaze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 enable them to stay in control of their lives, socially, psychologicall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But the dependence on the medicines also produces feelings of disempowe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Nett effect could be discomfort and distress at a deeper le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do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way of dealing with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uncertain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token of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asserts doctor’s professional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ption becomes itself a medi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symbolic act to terminate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 a consult in a positive mood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: scientific claims and commercial ai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ines are commodities that should produc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fficacy is scientifically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ufacturers believe in the efficacy of their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maker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words that should be used convincingly in documents produced for political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items, which, if managed well, legitimise political authority; if not managed well, they diminish credibility of politic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essential ingredients in health care which are however difficult to control due to their commercial and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ommod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(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ulturally reinterpr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-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yang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medicines also escape control of health care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al re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-EXO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anthropology at home (home-coming of anthropology; a logical result of studying the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ing familiar things abroad (churches, hospitals, school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African ethnograph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were biomedical institutions, medicines and activities not studi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eptively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“cultural” (but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hropology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tudying biomedical 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how culture presented obstacles to biomedicine (vaccination, health seeking, self-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ample of pharmaceuticals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My ‘discovery’ in Gh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harmaceuticals were the most frequently used treatment in G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of “contraceptive” Alo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r medicines proved “exotic” afte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I become exotic to myself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hropology of pharmaceut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ing at medicines as social and cultural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, cultural, emotional (etc) efficacies team up with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NES HA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efficacy (concreteness, ‘good to think with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All contribute to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LIVES OF MEDICINE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.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2. Mothers and child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3. Villagers and local reme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4.Women in dist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5. Sceptical consu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I. Th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6. Drug vendors and their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7. ‘Pharmacists’ as ‘doctor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8. Injection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9. Prescribing doctors: </a:t>
            </a: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V. The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0. Manufacturers: scientific claims, commercial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1. Health planners: making and contesting dru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4:32:54Z</dcterms:created>
  <dc:creator>svandergeest</dc:creator>
  <dc:description/>
  <dc:language>en-US</dc:language>
  <cp:lastModifiedBy>Owner</cp:lastModifiedBy>
  <dcterms:modified xsi:type="dcterms:W3CDTF">2013-11-18T13:41:24Z</dcterms:modified>
  <cp:revision>8</cp:revision>
  <dc:subject/>
  <dc:title>SOCIAL AND CULTURAL EFFECTS OF MEDICINES</dc:title>
</cp:coreProperties>
</file>